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C21-8D4C-4C2E-8BCE-9F0634DC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85D-FDD3-49A1-8B32-1B3CBAA2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E75-809B-42ED-B44F-C54B2AC6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34E-7648-4C71-B09A-59F44124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664-280C-4BD5-B3D4-543446CD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43E-6D13-46BE-A810-A6D687A0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674-4DCF-4A94-81B7-7A136F66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AAF-5D43-4E10-920D-95F6DA76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F94-013D-400B-B360-40211C1C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ADD-D63C-420C-B70F-523897C7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348-5210-46BD-AEAD-63E7BEA3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6B8-36DB-4214-AF09-2F6B29A5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4F2D-B7DD-40C6-B734-BF6098A6F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TEN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the basics of goo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three keys to e-mail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five C’s of business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PORT WRITING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 trying to accomp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 a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your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th Grade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age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e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la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5257800" y="2471760"/>
            <a:ext cx="2209680" cy="1981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rgon &amp; Acrony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tional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RS OF E-M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=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Subjec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st Sentenc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hor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C’s OF BUSINESS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3886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is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LE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BAD NEWS"/>
          <p:cNvPicPr/>
          <p:nvPr/>
        </p:nvPicPr>
        <p:blipFill>
          <a:blip r:embed="rId1"/>
          <a:stretch/>
        </p:blipFill>
        <p:spPr>
          <a:xfrm>
            <a:off x="5545080" y="0"/>
            <a:ext cx="3598920" cy="6858000"/>
          </a:xfrm>
          <a:prstGeom prst="rect">
            <a:avLst/>
          </a:prstGeom>
          <a:ln w="0">
            <a:noFill/>
          </a:ln>
        </p:spPr>
      </p:pic>
    </p:spTree>
  </p:cSld>
  <p:transition advTm="12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21:54:45Z</dcterms:created>
  <dc:creator/>
  <dc:description/>
  <dc:language>en-US</dc:language>
  <cp:lastModifiedBy>Bright</cp:lastModifiedBy>
  <dcterms:modified xsi:type="dcterms:W3CDTF">2013-08-22T12:01:03Z</dcterms:modified>
  <cp:revision>4</cp:revision>
  <dc:subject/>
  <dc:title>WRITTEN COMMUNICATIONS</dc:title>
</cp:coreProperties>
</file>